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600-A92C-427F-B9E4-F025534B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109695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7680" y="3989880"/>
            <a:ext cx="109695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4EC-D7B2-4EA5-9083-75299E4E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8720" y="151560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7680" y="398988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8720" y="398988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FFD-C92C-4D8D-919D-77747E0A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35319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6760" y="1515600"/>
            <a:ext cx="35319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5480" y="1515600"/>
            <a:ext cx="35319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7680" y="3989880"/>
            <a:ext cx="35319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6760" y="3989880"/>
            <a:ext cx="35319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5480" y="3989880"/>
            <a:ext cx="35319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60F-07D4-47A3-A456-63FBEC20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7680" y="1515600"/>
            <a:ext cx="109695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A96-37EB-4B42-8194-E577F137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1096956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7BC-513C-478C-93EA-60CEEFD2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535284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8720" y="1515600"/>
            <a:ext cx="535284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E7B-9724-4AA0-AFC6-0B637362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A53-D12F-4758-87F4-69CB7848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7680" y="607680"/>
            <a:ext cx="109695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9D2-730E-4CC9-8F1E-F5D9DBFE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8720" y="1515600"/>
            <a:ext cx="535284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7680" y="398988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AE7-FD74-495F-81D9-C24F7F7A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535284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8720" y="151560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8720" y="398988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BE8-9246-4F6F-9128-8BDC853D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7680" y="151560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8720" y="1515600"/>
            <a:ext cx="53528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7680" y="3989880"/>
            <a:ext cx="1096956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CEB-7A8A-4805-8E8C-65DD0C89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7680" y="607680"/>
            <a:ext cx="1096956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7680" y="1515600"/>
            <a:ext cx="1096956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360" y="6314760"/>
            <a:ext cx="269892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3846-83EA-471F-8656-338FCA9AF7D7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6240" y="631476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76880" y="631476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39E5-83D0-4903-BC9C-063F045C52E4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096e6"/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5600" y="2363760"/>
            <a:ext cx="73152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答司马谏议书</a:t>
            </a:r>
            <a:endParaRPr b="1" lang="en-US" sz="8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6240" y="4105080"/>
            <a:ext cx="73152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思考探究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1520" y="901440"/>
            <a:ext cx="10944360" cy="22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通读全文，你认为本文中哪些地方体现了王安非凡的政治胆略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?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>
            <a:off x="345960" y="2284560"/>
            <a:ext cx="11257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“</a:t>
            </a:r>
            <a:r>
              <a:rPr b="0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至于怨诽之多，则固前知其如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，改革前就已经将这种情况洞明于心，却敢于挑战，体现非凡的胆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人习于苟且非一日，士大夫多以不恤国事、同俗自媚于众为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，直斥当时苟且偷安，不思进取，墨守成规的现象，不回避，不妥协，不遮掩，体现一种直言不讳的勇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明知寡不敌众，却“</a:t>
            </a:r>
            <a:r>
              <a:rPr b="0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不量敌之众寡，</a:t>
            </a:r>
            <a:r>
              <a:rPr b="0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欲出力助上以抗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在论辩中面对司马光这样的政敌，使用“</a:t>
            </a:r>
            <a:r>
              <a:rPr b="0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何为而不汹汹然</a:t>
            </a:r>
            <a:r>
              <a:rPr b="0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之类的强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反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语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6" descr=""/>
          <p:cNvPicPr/>
          <p:nvPr/>
        </p:nvPicPr>
        <p:blipFill>
          <a:blip r:embed="rId1"/>
          <a:stretch/>
        </p:blipFill>
        <p:spPr>
          <a:xfrm>
            <a:off x="9532800" y="1668600"/>
            <a:ext cx="242280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圆角矩形 3"/>
          <p:cNvSpPr/>
          <p:nvPr/>
        </p:nvSpPr>
        <p:spPr>
          <a:xfrm>
            <a:off x="557280" y="1219320"/>
            <a:ext cx="10899720" cy="5265720"/>
          </a:xfrm>
          <a:prstGeom prst="roundRect">
            <a:avLst>
              <a:gd name="adj" fmla="val 16667"/>
            </a:avLst>
          </a:prstGeom>
          <a:solidFill>
            <a:srgbClr val="def0fa">
              <a:alpha val="58000"/>
            </a:srgbClr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内容小结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90640" y="1363320"/>
            <a:ext cx="10515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文</a:t>
            </a: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立论的论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针对司马光认为新法“侵官，生事，征利，拒谏，以致天下怨谤也”的指责，指出“儒者所争，尤在于名实，名实已明，而天下之理得矣”，从而说明变法是正确的，司马光的攻击名实不符，全是谬论。文章逐条驳斥司马光的谬论，从而批驳了保守派不恤国事、墨守成规的弊端，表现出作者坚持改革、绝不为流言俗语所动的决心以及坚持变法的坚决态度。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写作特点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1800" y="1998360"/>
            <a:ext cx="10515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</a:rPr>
              <a:t>行文简洁，结构严谨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作为书信体议论文首要特点是行文简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结构严谨，没有枝蔓，全文除开头和结尾段用几句酬答的礼貌语言以外，紧紧扣住保守派的几个主要论点进行驳斥，只驳论点不涉及其他事情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结构非常严谨，驳斥时针对其要害，言简意明，使文章短小精悍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00" name="图片 3" descr=""/>
          <p:cNvPicPr/>
          <p:nvPr/>
        </p:nvPicPr>
        <p:blipFill>
          <a:blip r:embed="rId1"/>
          <a:stretch/>
        </p:blipFill>
        <p:spPr>
          <a:xfrm>
            <a:off x="8794800" y="749160"/>
            <a:ext cx="3397320" cy="23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写作特点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8960" y="848880"/>
            <a:ext cx="10515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黑体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</a:rPr>
              <a:t>论证方法多样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本文的论证方式是驳论，批驳的方法是多种多样的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第一是直接反驳，如“</a:t>
            </a:r>
            <a:r>
              <a:rPr b="0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为天下理财，不为征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”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第二是借助论据，如“</a:t>
            </a:r>
            <a:r>
              <a:rPr b="0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某则以谓受命于人主，议法度而修之于朝廷，以授之于有司，不为侵官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”。这里就举出了有利的根据，说明不是自己独断专行，而是受命于皇帝，是朝廷议过的法度，是合理合法的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第三是举出史实进行反驳，如盘庚迁都的典故表示自己不会因流言蜚语改变立场，委婉地反驳了对方的责难，又表达了自己变法的坚定决心。整个反驳是明确而有力的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03" name="图片 3" descr=""/>
          <p:cNvPicPr/>
          <p:nvPr/>
        </p:nvPicPr>
        <p:blipFill>
          <a:blip r:embed="rId1"/>
          <a:stretch/>
        </p:blipFill>
        <p:spPr>
          <a:xfrm>
            <a:off x="8794800" y="787320"/>
            <a:ext cx="33973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写作特点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1163520"/>
            <a:ext cx="1051560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黑体"/>
              </a:rPr>
              <a:t>3.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</a:rPr>
              <a:t>气势磅礴，寓刚于柔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全文之所以有压倒论敌的浩然正气是因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第一、立足于理，理足则气盛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第二，擅于排比，连用排比驳斥对方，势如破竹，无可阻挡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第三，擅用反语，如“</a:t>
            </a:r>
            <a:r>
              <a:rPr b="0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欲出力助上以抗之，则众何为而不汹汹然</a:t>
            </a:r>
            <a:r>
              <a:rPr b="0" lang="en-US" sz="2400" spc="-1" strike="noStrike">
                <a:solidFill>
                  <a:srgbClr val="c00000"/>
                </a:solidFill>
                <a:latin typeface="黑体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铿锵有力。虽然全文傲岸之气，愤然涌出，强调坚持改革的决心不可逆转，但语气相当委婉、柔中有刚。这固然是由于书信体格式的需要，也出于朋友之间情意，但更是源于王安石作为一个政治家的坦荡胸怀和高度自信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06" name="图片 3" descr=""/>
          <p:cNvPicPr/>
          <p:nvPr/>
        </p:nvPicPr>
        <p:blipFill>
          <a:blip r:embed="rId1"/>
          <a:stretch/>
        </p:blipFill>
        <p:spPr>
          <a:xfrm>
            <a:off x="8688240" y="816120"/>
            <a:ext cx="339732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拓展延伸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74840" y="1699920"/>
            <a:ext cx="10515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如果司马光收到王安石的这封信，他会怎么样？ 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714240" y="2513160"/>
            <a:ext cx="10815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司马光收到王安石的信后，一方面会为王安石雄辩的才能折服，另外一方面也会看到王安石变法态度的坚决，又会很恼火，他可能会纠集更多的保守派公开和王安石作对，使王安石的变法不能顺利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4" descr=""/>
          <p:cNvPicPr/>
          <p:nvPr/>
        </p:nvPicPr>
        <p:blipFill>
          <a:blip r:embed="rId1"/>
          <a:stretch/>
        </p:blipFill>
        <p:spPr>
          <a:xfrm>
            <a:off x="10024920" y="4678200"/>
            <a:ext cx="2094120" cy="20941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5" descr=""/>
          <p:cNvPicPr/>
          <p:nvPr/>
        </p:nvPicPr>
        <p:blipFill>
          <a:blip r:embed="rId2"/>
          <a:stretch/>
        </p:blipFill>
        <p:spPr>
          <a:xfrm>
            <a:off x="9626760" y="728640"/>
            <a:ext cx="1137960" cy="11304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6" descr=""/>
          <p:cNvPicPr/>
          <p:nvPr/>
        </p:nvPicPr>
        <p:blipFill>
          <a:blip r:embed="rId3"/>
          <a:stretch/>
        </p:blipFill>
        <p:spPr>
          <a:xfrm>
            <a:off x="9769320" y="1554120"/>
            <a:ext cx="2422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拓展延伸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8960" y="1038240"/>
            <a:ext cx="105156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结合历史上王安石变法的相关史料，说一说，你眼中的王安石。 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1100160" y="2486160"/>
            <a:ext cx="9658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安石变法虽然以失败告终，但在当时的历史条件下，他却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敢于挑战传统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敢于对大地主大官僚的种种特权加以抑制和打击，这种精神是难能可贵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安石变法是在北宋“积贫积弱”的困境中发出的发奋图强的呼声，想尽力改变北宋王朝长期以来积贫积弱的屈辱处境，虽然失败，但依然体现了王安石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赤忱的爱国之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6" descr=""/>
          <p:cNvPicPr/>
          <p:nvPr/>
        </p:nvPicPr>
        <p:blipFill>
          <a:blip r:embed="rId1"/>
          <a:stretch/>
        </p:blipFill>
        <p:spPr>
          <a:xfrm>
            <a:off x="8869320" y="3522600"/>
            <a:ext cx="3249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>
            <a:off x="5769000" y="1698480"/>
            <a:ext cx="6033960" cy="3635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课堂小结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85720" y="1445760"/>
            <a:ext cx="50371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积贫积弱的北宋时代，王安石为助上除弊，主持变法，力排众议，迎难而上，以实际行动践行了自己“不畏浮云遮望眼，自缘身在最高层”的豪情壮志。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作业布置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22080" y="1574640"/>
            <a:ext cx="89154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完成同步练习。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较阅读司马光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王介甫书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说一说，你更认同谁的观点？ 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22" name="图片 4" descr=""/>
          <p:cNvPicPr/>
          <p:nvPr/>
        </p:nvPicPr>
        <p:blipFill>
          <a:blip r:embed="rId1"/>
          <a:stretch/>
        </p:blipFill>
        <p:spPr>
          <a:xfrm flipH="1" rot="12631800">
            <a:off x="10010160" y="2811240"/>
            <a:ext cx="1441440" cy="33051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5" descr=""/>
          <p:cNvPicPr/>
          <p:nvPr/>
        </p:nvPicPr>
        <p:blipFill>
          <a:blip r:embed="rId2"/>
          <a:stretch/>
        </p:blipFill>
        <p:spPr>
          <a:xfrm flipH="1" rot="4774200">
            <a:off x="8449560" y="3579480"/>
            <a:ext cx="144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7320" y="1757160"/>
            <a:ext cx="7315200" cy="130788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再见</a:t>
            </a:r>
            <a:endParaRPr b="1" lang="en-US" sz="8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复习导入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83920" y="2184480"/>
            <a:ext cx="492588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d0d0d"/>
                </a:solidFill>
                <a:latin typeface="Arial"/>
              </a:rPr>
              <a:t>你能试着用自己的话说说本文各段落的主要内容吗？</a:t>
            </a:r>
            <a:endParaRPr b="0" lang="en-US" sz="36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46" name="图片 4" descr=""/>
          <p:cNvPicPr/>
          <p:nvPr/>
        </p:nvPicPr>
        <p:blipFill>
          <a:blip r:embed="rId1"/>
          <a:srcRect l="476" t="35516" r="-467" b="-158"/>
          <a:stretch/>
        </p:blipFill>
        <p:spPr>
          <a:xfrm>
            <a:off x="6603840" y="2184480"/>
            <a:ext cx="4084920" cy="37638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9" descr=""/>
          <p:cNvPicPr/>
          <p:nvPr/>
        </p:nvPicPr>
        <p:blipFill>
          <a:blip r:embed="rId2"/>
          <a:stretch/>
        </p:blipFill>
        <p:spPr>
          <a:xfrm>
            <a:off x="9433080" y="650880"/>
            <a:ext cx="2638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76240" y="1008000"/>
            <a:ext cx="105156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默读第二段，找一找，作者是如何针对司马光的观点一一进行批驳的？圈画出相关原文。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47800" y="258300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司马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19080" y="46134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安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782800" y="26114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侵官     生事     征利     拒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6983280" y="2622600"/>
            <a:ext cx="976320" cy="304920"/>
          </a:xfrm>
          <a:prstGeom prst="rightArrow">
            <a:avLst>
              <a:gd name="adj1" fmla="val 50000"/>
              <a:gd name="adj2" fmla="val 800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420120" y="2598840"/>
            <a:ext cx="18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天下怨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367720" y="4406760"/>
            <a:ext cx="47458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难壬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辟邪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为天下理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以兴利除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举先王之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授之于有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修之于朝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受命于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9454320" y="4308480"/>
            <a:ext cx="1426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前知其如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怨诽之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Group 10" descr=""/>
          <p:cNvPicPr/>
          <p:nvPr/>
        </p:nvPicPr>
        <p:blipFill>
          <a:blip r:embed="rId1"/>
          <a:stretch/>
        </p:blipFill>
        <p:spPr>
          <a:xfrm>
            <a:off x="2968560" y="3260880"/>
            <a:ext cx="402120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10261440" y="3241800"/>
            <a:ext cx="152640" cy="1066680"/>
          </a:xfrm>
          <a:prstGeom prst="upArrow">
            <a:avLst>
              <a:gd name="adj1" fmla="val 50000"/>
              <a:gd name="adj2" fmla="val 174705"/>
            </a:avLst>
          </a:prstGeom>
          <a:solidFill>
            <a:srgbClr val="2169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箭头 16"/>
          <p:cNvSpPr/>
          <p:nvPr/>
        </p:nvSpPr>
        <p:spPr>
          <a:xfrm>
            <a:off x="7705800" y="2741760"/>
            <a:ext cx="1419120" cy="234720"/>
          </a:xfrm>
          <a:prstGeom prst="rightArrow">
            <a:avLst>
              <a:gd name="adj1" fmla="val 50000"/>
              <a:gd name="adj2" fmla="val 50159"/>
            </a:avLst>
          </a:prstGeom>
          <a:solidFill>
            <a:srgbClr val="dfeafa"/>
          </a:solidFill>
          <a:ln w="12600">
            <a:solidFill>
              <a:srgbClr val="bc88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7" descr=""/>
          <p:cNvPicPr/>
          <p:nvPr/>
        </p:nvPicPr>
        <p:blipFill>
          <a:blip r:embed="rId2"/>
          <a:stretch/>
        </p:blipFill>
        <p:spPr>
          <a:xfrm flipH="1">
            <a:off x="0" y="4572000"/>
            <a:ext cx="24177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2619720" y="4095720"/>
            <a:ext cx="51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段首句写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实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争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230040" y="4984920"/>
            <a:ext cx="1143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先提出一个双方均认可的道理，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名实已明，而天下之理得矣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为下文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正名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提供了推理前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"/>
          <p:cNvSpPr/>
          <p:nvPr/>
        </p:nvSpPr>
        <p:spPr>
          <a:xfrm>
            <a:off x="5925600" y="1246320"/>
            <a:ext cx="11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这段王安石的驳论，这段话在句式上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/>
          <p:cNvSpPr/>
          <p:nvPr/>
        </p:nvSpPr>
        <p:spPr>
          <a:xfrm>
            <a:off x="326880" y="2027160"/>
            <a:ext cx="114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连用四个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不为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……”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 ，不容置疑的判断句，显示了王安石作为政治家、改革家的风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9" descr=""/>
          <p:cNvPicPr/>
          <p:nvPr/>
        </p:nvPicPr>
        <p:blipFill>
          <a:blip r:embed="rId1"/>
          <a:srcRect l="5625" t="9810" r="85626" b="73525"/>
          <a:stretch/>
        </p:blipFill>
        <p:spPr>
          <a:xfrm>
            <a:off x="10477440" y="3408480"/>
            <a:ext cx="1295640" cy="13874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0" descr=""/>
          <p:cNvPicPr/>
          <p:nvPr/>
        </p:nvPicPr>
        <p:blipFill>
          <a:blip r:embed="rId2"/>
          <a:stretch/>
        </p:blipFill>
        <p:spPr>
          <a:xfrm rot="21042000">
            <a:off x="10872360" y="3629160"/>
            <a:ext cx="147636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3150360" y="13701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概括：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王安石为什么要进行这场变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6"/>
          <p:cNvSpPr/>
          <p:nvPr/>
        </p:nvSpPr>
        <p:spPr>
          <a:xfrm>
            <a:off x="-336600" y="2114640"/>
            <a:ext cx="11638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习于苟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士大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不恤国事、同俗自媚于众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皇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上乃欲变此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9" descr=""/>
          <p:cNvPicPr/>
          <p:nvPr/>
        </p:nvPicPr>
        <p:blipFill>
          <a:blip r:embed="rId1"/>
          <a:srcRect l="0" t="23368" r="-262" b="9769"/>
          <a:stretch/>
        </p:blipFill>
        <p:spPr>
          <a:xfrm>
            <a:off x="7596360" y="3792600"/>
            <a:ext cx="4595760" cy="3065400"/>
          </a:xfrm>
          <a:prstGeom prst="rect">
            <a:avLst/>
          </a:prstGeom>
          <a:ln w="0">
            <a:noFill/>
          </a:ln>
        </p:spPr>
      </p:pic>
      <p:sp>
        <p:nvSpPr>
          <p:cNvPr id="72" name="矩形 10"/>
          <p:cNvSpPr/>
          <p:nvPr/>
        </p:nvSpPr>
        <p:spPr>
          <a:xfrm>
            <a:off x="577800" y="4111560"/>
            <a:ext cx="891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几句说明了自己要变法的原因，在针砭时弊的同时，委婉指出司马光的指责欠缺了对社会实际的考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5000" y="2782440"/>
            <a:ext cx="10901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出现这种情形的原因是什么？司马光和王安石的见解有什么不同？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1521000" y="884160"/>
            <a:ext cx="68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实施变法时，出现了怎样的情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469800" y="1460520"/>
            <a:ext cx="4827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天下—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怨谤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众—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汹汹然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746280" y="4179960"/>
            <a:ext cx="1071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司马光认为是王安石在变法中，“</a:t>
            </a:r>
            <a:r>
              <a:rPr b="0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侵官、生事、征利、拒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造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王安石认为“</a:t>
            </a:r>
            <a:r>
              <a:rPr b="0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上乃欲变此，而某不量敌之众寡，欲出力助上以抗之，则众何为而不汹汹然？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88960" y="1604520"/>
            <a:ext cx="10515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王安石举“盘庚迁都”的例子的用意是什么？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830160" y="2576520"/>
            <a:ext cx="10352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历史上曾有过的如何对待怨谤的事实为表率，意在说明“怨诽之多”并不是评定是非的唯一标准；只要确认自己做得对，就不会因为别人的毁谤而放弃推行新法；既委婉地反驳了怨诽之多的责备，同时也表明了自己会力排众议，坚持变法，表达了自己坚持变法的决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9" descr=""/>
          <p:cNvPicPr/>
          <p:nvPr/>
        </p:nvPicPr>
        <p:blipFill>
          <a:blip r:embed="rId1"/>
          <a:stretch/>
        </p:blipFill>
        <p:spPr>
          <a:xfrm>
            <a:off x="9433080" y="650880"/>
            <a:ext cx="2638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4200" y="2068200"/>
            <a:ext cx="10515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如君实责我以在位久，未能助上大有为，以膏泽斯民，则某知罪矣；如曰今日当一切不事事，守前所为而已，则非某之所敢知。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" name="内容占位符 2"/>
          <p:cNvSpPr/>
          <p:nvPr/>
        </p:nvSpPr>
        <p:spPr>
          <a:xfrm>
            <a:off x="1500120" y="1247760"/>
            <a:ext cx="10515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段最后，作者写两句假设句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882720" y="3648240"/>
            <a:ext cx="10226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句内容上退中有进，前句看似在退，王安石说自己“错”在“在位久，未能助上大有为，以膏泽斯民”，实际上是认为自己改革还不够坚决，不够迅速，不够彻底，这也使后句的驳斥更显柔中有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6" descr=""/>
          <p:cNvPicPr/>
          <p:nvPr/>
        </p:nvPicPr>
        <p:blipFill>
          <a:blip r:embed="rId1"/>
          <a:stretch/>
        </p:blipFill>
        <p:spPr>
          <a:xfrm>
            <a:off x="9515520" y="5416560"/>
            <a:ext cx="1138320" cy="11286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7" descr=""/>
          <p:cNvPicPr/>
          <p:nvPr/>
        </p:nvPicPr>
        <p:blipFill>
          <a:blip r:embed="rId2"/>
          <a:stretch/>
        </p:blipFill>
        <p:spPr>
          <a:xfrm>
            <a:off x="9658440" y="6240600"/>
            <a:ext cx="242244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圆角矩形 3"/>
          <p:cNvSpPr/>
          <p:nvPr/>
        </p:nvSpPr>
        <p:spPr>
          <a:xfrm>
            <a:off x="557280" y="1219320"/>
            <a:ext cx="10899720" cy="5265720"/>
          </a:xfrm>
          <a:prstGeom prst="roundRect">
            <a:avLst>
              <a:gd name="adj" fmla="val 16667"/>
            </a:avLst>
          </a:prstGeom>
          <a:solidFill>
            <a:srgbClr val="fff1dd">
              <a:alpha val="58000"/>
            </a:srgbClr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98440" y="914040"/>
            <a:ext cx="979992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</a:rPr>
              <a:t>课文研读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01800" y="1311120"/>
            <a:ext cx="1051560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三段内容可分为三个层次：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第一层指出当前现状，并强调皇上要改变此情况，而自己不顾众人反对，要“助上以抗之”，然后用一句反问句，增加结论的不容置疑性。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第二层用盘庚迁都的事实，来论明自己推行新法的正确性，增强说服力。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第三层由两个假设句构成，内容上退中有进，前句的退，使后句的驳斥更显柔中有刚。 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3T05:08:00Z</dcterms:created>
  <dc:creator>周淑婷</dc:creator>
  <dc:description/>
  <dc:language>en-US</dc:language>
  <cp:lastModifiedBy>微软用户</cp:lastModifiedBy>
  <dcterms:modified xsi:type="dcterms:W3CDTF">2022-05-29T05:39:42Z</dcterms:modified>
  <cp:revision>1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EFB8E4076DA49CBB4A537F57EB45325</vt:lpwstr>
  </property>
  <property fmtid="{D5CDD505-2E9C-101B-9397-08002B2CF9AE}" pid="3" name="KSOProductBuildVer">
    <vt:lpwstr>2052-11.1.0.9564</vt:lpwstr>
  </property>
</Properties>
</file>